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C18BE-0A10-4DFC-9113-1C4A3E94A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348A1-2BD4-4444-90DE-87A32813D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A323F-5E24-4E21-8F42-8041946DD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01710-FDE0-49D7-8C13-942CA47D6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5173B-F893-4E41-9D4D-E03B18035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8ECCC-484A-4B92-B1C6-2A688B4E3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50832-4794-4635-936D-A0D3BD9D1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C5F6E-5EC8-4389-9AAE-B695BA19D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1C161-B3B9-4892-9A1D-A41B95FA8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A3E0D-4A10-4965-9706-C4CC3E255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BB870-8931-4AED-AAB3-D70E62B5A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98879-4606-4DC8-A9D8-E792434F1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6480D-ED10-44A1-93BC-3C483B80A4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24000" y="0"/>
            <a:ext cx="4919400" cy="6597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508720" y="981000"/>
            <a:ext cx="3260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Hau da kolonen arukikuntzen mapa 1540an kolon hiltze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8T06:14:21Z</dcterms:created>
  <dc:creator>ik015111zz</dc:creator>
  <dc:description/>
  <dc:language>en-US</dc:language>
  <cp:lastModifiedBy>ik015111zz</cp:lastModifiedBy>
  <dcterms:modified xsi:type="dcterms:W3CDTF">2012-05-18T06:14:29Z</dcterms:modified>
  <cp:revision>1</cp:revision>
  <dc:subject/>
  <dc:title>Diapositiva 1</dc:title>
</cp:coreProperties>
</file>